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5DF2-A8A9-47CB-8D90-670E4CE36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C6B-E9A6-40FF-BCB9-1EDC23CB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1D9-04F1-4CF1-8089-74C1CAC2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FC5AE-61AD-4C5B-95FE-1E60D7C3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43019-6B33-43B9-81CE-D734863E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4C55C-AB35-4FD8-B004-03C78E36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9BE47-F767-4427-8D39-AD7AE55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73D46-2626-4816-BF15-14737FEE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1EBE6-4CB0-4A55-B01C-B7DD84F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31400-ACBA-4858-96FA-C22AA667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81D7B-DDF0-4A60-99A1-9A0DF015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E3B64-7AB5-48E4-B3B1-55A1EB4C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A0295-A36C-468F-A626-217AC0D8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780-BF7C-4E2A-AA83-BD8198C3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A66FF-C8B6-458C-BFFA-1EC85BE5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79FAE-ACC7-4774-90FC-050A07D5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E7DE9-8F5F-4284-97A1-B72D42F8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A6619-43CD-4D72-8A27-82A32B19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2B4EA-DABB-4562-8087-46C8D9B7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72232-C1CE-4E39-B9A2-0D0EC238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37B9C-490D-4A6F-BCEF-12A44FBC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40E37-C5C0-4613-B8BF-2E3984A4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E6380-17A5-4D28-B555-4C3677F8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1D888-E2E0-4E3F-8C5E-A4CCFB65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76F-92FD-4DD9-BC4F-3831C277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46479-76B1-4315-BE12-72D86792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D2E8B-6175-4C05-9A97-64E23844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BCC55-0934-4C16-8361-99F4112D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A6234-5B05-4FAC-AE2C-CA4F2E12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6D810-867E-4091-B3D1-5AC07C09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0E057-D37E-40ED-85FC-87C4D868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4507F-E824-4D1F-95F4-E72A649C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7E94C-35E1-4108-AA31-E80D6C3A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5F150-02F8-4B49-AFFE-D68D32D9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3CD50-98B3-4069-B3A7-CF318479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AA77-521E-44B0-9898-9DFE212B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A3575-6AB0-457B-A15C-0D86ECA6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6B2C2-7D5B-4CAB-9816-543335E8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852B1-17B5-4142-B428-EEBBA7AC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92DAB-31AC-48F2-8584-08300173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C99AB-2BAD-450F-B7DA-1C3F10E4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03964-8552-4BEE-B2E2-6C45A5DA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42EC4-E838-44B9-9464-7D32380B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026DE-7A10-4040-B9AA-96866BFB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5A260-E298-47A4-950C-89D46F74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1147A-4B70-4E17-BD60-50725CD9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953A-DEE0-4BF4-9F84-B0CF4DB1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8A59A-269C-4F46-8E1E-C60A9932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280F5-AC21-4BDE-B173-AB1CE20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84054-0D51-47D3-B996-6C271B40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FFA76-B37F-4294-A922-A69A4396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7A989-76CC-4DAD-BD54-A10FDACD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A9B04-CB70-4EAF-9AF1-F4323697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78664-CEDF-4803-B04D-0D5E4402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37C41-613F-47B2-A4CF-711474BE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23529-7464-48DB-9FA4-B1EB3246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48AFC-E6C4-4E7B-9A77-0A83D85F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E3D1-34CB-43A0-A59F-8098E193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E4C16-8EE1-46B1-A1D6-C6BA9862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1A394-1577-46B2-88E5-AA9C150B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FC28C-52FD-46EA-BF3B-B627202D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91F93-A18B-4DDF-84D5-1CD74B91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79E11-A912-4A93-B76C-6BA858F3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97AB1-5917-447B-9A44-02EA1065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768CB-0C3E-4846-B95A-728B429B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5E6F-DFBE-4C4E-AD06-42AD41C9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4509-8BA2-48DD-AEEA-036D3EFB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EEBC-5EFF-493E-A699-39C2696F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9274-51A8-4A02-91A2-D29B2D0E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181-A396-45A3-95C9-BA282359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D290-23A4-4A37-9598-339611A4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CE42-8A31-4BFF-9299-70B496C0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D9BA-7AAC-423D-BC6D-416B696E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2786-1C0C-4121-B7B7-B8BDD417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925D-EC5F-461F-8EF4-1D771018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6080-0FF0-4F03-AA62-23BCCBCD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B525-4C93-4215-AC07-D9D19A0D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30F21-24A8-41AD-8A07-55FD8966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F3041-276F-4744-9D38-CFB32362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82C7-43EF-4A55-A4CF-1AF2BB41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C83-A7E2-4D9A-BAF8-D3E9E2B6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9972-84E3-4983-A1F7-5F308A9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C38E-0177-4362-8B9C-6B97B0A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97851-B856-4750-92A1-C64A9590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6B7A-A9AE-4DEA-99C7-93905F30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FEC6-2B30-41FB-AC11-4914A8B6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35FF-707C-4091-8DFC-974A86B9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0E9B-CC03-41B1-B545-923679AE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941B0-15BD-4B47-8D9E-7ADF2446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883F1-B967-46A2-A232-49939F85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0459-3FD1-4EE8-B78B-2BE6D520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04C-B16D-4A13-9CA8-6F21DD49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81A42-46B9-440C-9F62-363026F4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89401-E1B2-4761-A081-82F0447E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AB3AE-BD9A-4BE8-8D6C-AE124063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A70AC-56AC-411F-8B78-AF6C23A1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C0983-C7C6-4C1C-8849-F6B36BBD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C849B-1E57-4A1D-88BB-0A3C42EB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F1C36-A12C-4508-9B52-EB0DE0A3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88934-C000-4C38-9007-CF851659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C7063-8B1E-4D7D-B496-4E79C8BE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9B94-43CF-422D-93CF-D1E386D9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1BD-9574-4279-BF32-16BD6964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41967-882D-4477-A9CD-CB7CE049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30345-8CD0-4F4D-87DF-26571A0F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AAAB4-3550-42A8-A396-063FBDC3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14493-9E17-4E44-A063-A02DCE0E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BE624-85A8-4761-B671-47F7DB74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F0B99-77CF-419A-BCB1-4526D86E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8F40-8291-495D-88D6-2CD40096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1529F-434C-42EA-98E0-54D4CF1C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E7DE8-0F99-4CF8-BCD9-E44361E4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AC5C6-8012-43F7-B23E-ED75D7EA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3EF-F66E-4E33-A580-49C2CFCC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7BC35-365D-4411-8D61-AFB50AF9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47FE4-4B3F-4463-85F5-B2C2CE96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27DCB-3532-47A6-BFD4-5639A95B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462D8-2686-4945-B645-6B7C2015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2D4F1-25AF-45A6-9369-36B22E4A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91EB5-A5F2-4007-B028-3DEDB96B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CC3BB-F42F-4DCD-B27B-0B8702AF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FBDB0-210D-47A5-8669-41641869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5690F-0FEC-45EB-9109-BF201DE8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36672-4695-4201-9A5E-80EBA5C4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973-CF1F-4D04-9E5A-60813546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ED593-46FA-4538-9084-9A949F1A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C777E-63BD-484B-870A-56214EDB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3A048-C1B3-4E58-A2E9-DDB9F2B3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82D3B-1A9A-4756-BF0E-88D41F68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15282-A02E-4CEB-8193-287E024E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73BE7-8E6C-4386-94A7-6A6476E7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30546-970E-4420-A0BB-C028092D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E34F-99CA-48F3-975C-5C20C401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F8714-F7BE-4696-815C-2A5C6A45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9FA6C-5FA9-4F24-9F1A-2AB56C87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BF1-645E-4B21-AF0A-6743C8E1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1C0F4-CB87-4917-8CB7-15199B41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AFCAF-123F-4CBD-9155-D373C4AE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8658A-0CAA-43D8-832A-02BCC43B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5B8A2-E14C-4113-95C6-DC77BEFE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F2C98-6F04-4D72-836C-C30CF2BC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66019-6E51-4F38-A8CE-3A9222F6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18074-D18A-4706-8394-F961B2CD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5374D-7AE6-46CD-AC4B-1CCA3063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80ECD-D4CF-446C-8DF2-DA0BD507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901AB-586F-4B32-B19F-F2CA3647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577-D672-44A4-AE93-C49FB26F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9BF43-04EB-4CAA-8967-D117F60D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BB5D9-8E5F-4D61-AAD0-EDD30AAC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B459C-7683-4D59-B6AE-95449B28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094EF-9157-483C-A528-7CB13430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E2BD1-CDC4-40DC-8B02-C6EF6F89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5BEF4-4B73-4632-AEB0-9589A105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FA62B-41C9-480D-AF50-DABAFC61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39CB8-CF5F-4920-9958-37575303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01411-870F-4C74-84A6-BFA6D25D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2517D-2AE1-4D29-92A3-F2342E4F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D29A-2246-4799-89BF-09E1CA1A48B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A9C2-2AF5-4075-9B92-A9B18FB28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DDB8-55EA-4FB4-9873-7012E12E9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7C9B-286B-4CB9-A085-57C3CABCD27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88A6-8404-419B-B5F7-9D0B556BF54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6670-86E9-45FD-9C88-8D29E1683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42FE-D17D-4348-9FEF-8CA8E3958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C8FC-E287-439E-AF94-61D8403604C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3342-E9F6-4500-AA6F-7D10CC6AF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9ADC-5663-49AD-8966-B83D41260B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450E-B5C2-49CD-916B-9B447CF1B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30EF-AF64-4E06-8B64-3EA21E217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0F69-564B-4B77-A1A1-6810492EF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8:30Z</dcterms:modified>
  <cp:revision>14</cp:revision>
  <dc:subject/>
  <dc:title>Sexual Reproduction</dc:title>
</cp:coreProperties>
</file>